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D72-0850-4652-8BA1-12014B44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C76-2F98-4CBD-926C-E50A386B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8BE-C02F-4323-82BF-168DC334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4EF-4EB0-4872-AD97-C5BE6579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67F-962E-4614-ABE0-025E9BE8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C02-858D-4A2E-9DDC-065B25B1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11D7-F382-4E8B-985A-BF8D4F4D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86AF-4C10-440A-AD55-8E4DCE67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2FD-D9AF-474F-BF31-D742BEC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2227-382E-4C69-8EBD-54729A78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5DDB-910F-460A-ABB9-E3C629B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E84-5990-44EC-84FE-1E4B511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209-FA48-4482-95AA-835DA6B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DFC5-F653-4690-9AB9-09A3F984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DC41-4319-4E34-97DA-E55F41F4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57D2-005B-4FC9-98D2-302426E3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192-417F-4780-9551-3322AB17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AF7-BDF5-42C7-BB2F-8F54097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873-8586-4A1F-A8BC-A33395C0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864-5E08-4C52-BE1A-14FC34B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DCB-A866-41FF-9DB8-8EE1417A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310-1A49-4D8F-8BE3-B514F9D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735-C933-4577-98D4-E7BE692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26A-4296-4BF4-9B59-781B24D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A28-8EEE-440D-9928-C050A2CEF31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791-B2EF-42E2-B6DE-9FDEEFA2133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569520"/>
            <a:ext cx="86374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Franz Kafka (1883-1924)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4091040" cy="453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I think we ought to read only the kind of books that wound and stab us...We need the books that affect us like a disaster, that grieve us deeply, like the death of someone we loved more than ourselves, like being  banished into forests far from everyone, like a suicide. A book must be the axe for the frozen sea inside us."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Picture 5" descr="C:\WINDOWS\Profiles\Daddy\Application Data\Microsoft\Media Catalog\kafka.jpg"/>
          <p:cNvPicPr/>
          <p:nvPr/>
        </p:nvPicPr>
        <p:blipFill>
          <a:blip r:embed="rId2"/>
          <a:stretch/>
        </p:blipFill>
        <p:spPr>
          <a:xfrm>
            <a:off x="5106960" y="1941480"/>
            <a:ext cx="2832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:\WINDOWS\Profiles\Daddy\Desktop\kafka\Styx.jpg"/>
          <p:cNvPicPr/>
          <p:nvPr/>
        </p:nvPicPr>
        <p:blipFill>
          <a:blip r:embed="rId2"/>
          <a:stretch/>
        </p:blipFill>
        <p:spPr>
          <a:xfrm>
            <a:off x="1600200" y="380880"/>
            <a:ext cx="6207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952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utiful World,” Rene Magrit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5" descr="C:\WINDOWS\Profiles\Daddy\Desktop\kafka\Rene_Magritte_Beautiful_world.jpg"/>
          <p:cNvPicPr/>
          <p:nvPr/>
        </p:nvPicPr>
        <p:blipFill>
          <a:blip r:embed="rId2"/>
          <a:stretch/>
        </p:blipFill>
        <p:spPr>
          <a:xfrm>
            <a:off x="2438280" y="380880"/>
            <a:ext cx="409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952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uman Condition,” Rene Magrit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4" descr="C:\WINDOWS\Profiles\Daddy\Desktop\kafka\Rene_Magritte_Human_Condition.jpg"/>
          <p:cNvPicPr/>
          <p:nvPr/>
        </p:nvPicPr>
        <p:blipFill>
          <a:blip r:embed="rId2"/>
          <a:stretch/>
        </p:blipFill>
        <p:spPr>
          <a:xfrm>
            <a:off x="2590920" y="228600"/>
            <a:ext cx="433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295280" y="6248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Divisibility,” Yves Tangu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C:\WINDOWS\Profiles\Daddy\Desktop\kafka\Yves_Tanguy_Infinite_Divisibility.jpg"/>
          <p:cNvPicPr/>
          <p:nvPr/>
        </p:nvPicPr>
        <p:blipFill>
          <a:blip r:embed="rId2"/>
          <a:stretch/>
        </p:blipFill>
        <p:spPr>
          <a:xfrm>
            <a:off x="2133720" y="304920"/>
            <a:ext cx="49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4777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Existentialism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most significant philosophical movement of the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entury, EXISTENTIALISM is the belief that reality, in any meaningful sense, must be created through individual actions and choic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istentialism is the opposite of  “ESSENTIALISM,” or the belief that reality, meaning, and significance precede individual actions and choic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8680" y="2133720"/>
            <a:ext cx="820872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ssentialism: “To be is to do.”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xistentialism: “To do is to be.”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inatraism: “Do be do be do.”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4777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Non-Existence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81080"/>
            <a:ext cx="82087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existentialists, failure to act in any meaningful way because a failure to exist. (Think Peer Gynt and the Buttonmoulder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ilure to act for oneself became a failure to define oneself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flessness,” usually seen as a virtue in essentialist thought, became literally the absence of a self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569520"/>
            <a:ext cx="86374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Kafka’s Life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erman Jew in Prag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frustrated writer whose father forced him into a career as a bank cle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very little in his life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ft orders for all of his manuscripts to be destroyed when he di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s executor, disobeyed his orders and Kafka became famous after his de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94560"/>
            <a:ext cx="863748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Kafkaesque”</a:t>
            </a:r>
            <a:br>
              <a:rPr sz="6600"/>
            </a:b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2590920"/>
            <a:ext cx="820872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tamorphosis: A traveling salesman is turned into a bug in the first sentenc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Castle: A man named K. is summoned to work as a surveyor in a castle, but the castle’s bureaucracy prevents him from ever arriving at his destination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Trial: A man named Joseph K. is accused of a crime and forced to mount a defense, but he is never told what his supposed crime 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 situation in which someone is at the mercy of a collective logic that he or she does not understand and perceives to be comically absur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569520"/>
            <a:ext cx="86374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Kafka: Three Movements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ressionism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rrealism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entialism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385560"/>
            <a:ext cx="863748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Expressionism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02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 artistic movement that held that art should represent the internal reality (usually painful) rather than attempting to recreate or reproduce external reality—which art can never 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C:\WINDOWS\Profiles\Daddy\Application Data\Microsoft\Media Catalog\munch.scream.jpg"/>
          <p:cNvPicPr/>
          <p:nvPr/>
        </p:nvPicPr>
        <p:blipFill>
          <a:blip r:embed="rId2"/>
          <a:stretch/>
        </p:blipFill>
        <p:spPr>
          <a:xfrm>
            <a:off x="4932360" y="194148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777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Surrealism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156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artistic movement that focused on  impossibilities and contradictions that suggested the subconscious reality of the dream world rather than the tangible reality of the physical worl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447920" y="6248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of Memory,” Salvador D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4" descr="C:\WINDOWS\Profiles\Daddy\Desktop\kafka\Dali_persistence_of_memory_1931.jpg"/>
          <p:cNvPicPr/>
          <p:nvPr/>
        </p:nvPicPr>
        <p:blipFill>
          <a:blip r:embed="rId2"/>
          <a:stretch/>
        </p:blipFill>
        <p:spPr>
          <a:xfrm>
            <a:off x="838080" y="689040"/>
            <a:ext cx="73915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752480" y="6172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rucifiction,” Salvador D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5" descr="C:\WINDOWS\Profiles\Daddy\Desktop\kafka\dali_crucifiction.jpg"/>
          <p:cNvPicPr/>
          <p:nvPr/>
        </p:nvPicPr>
        <p:blipFill>
          <a:blip r:embed="rId2"/>
          <a:stretch/>
        </p:blipFill>
        <p:spPr>
          <a:xfrm>
            <a:off x="2514600" y="457200"/>
            <a:ext cx="3497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952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e Blanche,” Rene Magrit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3" descr="C:\WINDOWS\Profiles\Daddy\Desktop\kafka\Rene_Magritte_Carte_Blanche.jpg"/>
          <p:cNvPicPr/>
          <p:nvPr/>
        </p:nvPicPr>
        <p:blipFill>
          <a:blip r:embed="rId2"/>
          <a:stretch/>
        </p:blipFill>
        <p:spPr>
          <a:xfrm>
            <a:off x="2438280" y="457200"/>
            <a:ext cx="3980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23:21:16Z</dcterms:created>
  <dc:creator>Michael and Karen Austin</dc:creator>
  <dc:description/>
  <dc:language>en-US</dc:language>
  <cp:lastModifiedBy>Sue Gregory</cp:lastModifiedBy>
  <cp:lastPrinted>2009-04-22T19:24:48Z</cp:lastPrinted>
  <dcterms:modified xsi:type="dcterms:W3CDTF">2008-05-01T05:08:42Z</dcterms:modified>
  <cp:revision>15</cp:revision>
  <dc:subject/>
  <dc:title>Franz Kafka (1883-1924)</dc:title>
</cp:coreProperties>
</file>